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A953-ADD4-4678-91CF-4CCB1801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717-A106-4E2E-9C1D-95ACBE96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CB28-0A85-4388-BC02-1644E3D1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E50-EBE4-4D1D-9399-58974548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4295-910F-4337-A864-1B73ECAE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EA55-A046-4174-83E9-CFBB3310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61A3-0F58-4D75-9FF9-8DF1768E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99F9-E655-455A-90F4-FB35DB4E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3FF6-AAAE-4825-AFE0-C571B6C7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E740-CD30-44B4-AB57-86E816BC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6AF6-18C5-4421-AD6C-FC27BE9F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1FF-9CAE-48AF-A120-C9D79FB4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AEEA-9A0F-41B4-827E-392FA799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BBE7-F6C4-425A-B92A-1BDB525B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4385-0FCB-4616-A1B2-9F2EF6BA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9211-39DC-4E1E-9E3B-3E365252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53F1-496E-4FF0-9E96-D8472424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164A-7F21-4929-9BB1-275E6044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F2E4-0E91-4F30-A415-E70DDC76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1799-DFCB-46E6-8CFB-11AFA13C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C62-6953-4721-BF60-00A93756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CDE-55D9-4CCD-85EF-01F5D7A6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E9C5-D2B4-4DB9-B8FA-C24C3388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5FBF-26B7-41A9-9E64-7501D746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B543-52B4-4E81-876E-809D458628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45F9-7D7B-44A6-8B4F-1FE759F87A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dden Markov Models for fMRI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becca Hutch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/30/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can’t model real da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ufficient training dat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r estimates of initial distribution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e HMM approach with supervised lear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 the training algorithm where the state transitions 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ify the Naïve Bayes Classifiers we usually use to represent the emission probabilities of the observ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different HMM stru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a better way to constrain model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biner, Lawrence R.  “A Tutorial on Hidden Markov Models and Selected Applications in Speech Recognition.”  Proceedings of the IEEE, Vol. 77, No. 2, February 1989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kov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dden Markov Mode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s of th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Status and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ov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 states (e.g. N=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 state distribution (e.g. P = [0.7 0.3]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ion probability matrix between stat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.g. A = [0.5 0.5; 0.0 1.0]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ov Assumption: current state depends only on state at previous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4572000"/>
            <a:ext cx="12956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45720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5" idx="0"/>
            <a:endCxn id="105" idx="7"/>
          </p:cNvCxnSpPr>
          <p:nvPr/>
        </p:nvCxnSpPr>
        <p:spPr>
          <a:xfrm flipH="1" rot="16200000">
            <a:off x="2535120" y="4435920"/>
            <a:ext cx="189720" cy="459360"/>
          </a:xfrm>
          <a:prstGeom prst="curvedConnector5">
            <a:avLst>
              <a:gd name="adj1" fmla="val -120912"/>
              <a:gd name="adj2" fmla="val 49960"/>
              <a:gd name="adj3" fmla="val -120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6" idx="0"/>
            <a:endCxn id="106" idx="7"/>
          </p:cNvCxnSpPr>
          <p:nvPr/>
        </p:nvCxnSpPr>
        <p:spPr>
          <a:xfrm flipH="1" rot="16200000">
            <a:off x="4668480" y="4435920"/>
            <a:ext cx="189720" cy="459720"/>
          </a:xfrm>
          <a:prstGeom prst="curvedConnector5">
            <a:avLst>
              <a:gd name="adj1" fmla="val -120912"/>
              <a:gd name="adj2" fmla="val 50000"/>
              <a:gd name="adj3" fmla="val -120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1949400" y="4876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31920" y="48769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27720" y="41464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760" y="48006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7760" y="41464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72680" y="4419720"/>
            <a:ext cx="29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ypical ques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is the probabilit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ing a partic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sequ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dden Markov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ov Model in which the state is not directly ob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ability distribution over observations for each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4572000"/>
            <a:ext cx="12956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45720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518148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8" idx="0"/>
            <a:endCxn id="118" idx="7"/>
          </p:cNvCxnSpPr>
          <p:nvPr/>
        </p:nvCxnSpPr>
        <p:spPr>
          <a:xfrm flipH="1" rot="16200000">
            <a:off x="2535120" y="4435920"/>
            <a:ext cx="189720" cy="459360"/>
          </a:xfrm>
          <a:prstGeom prst="curvedConnector5">
            <a:avLst>
              <a:gd name="adj1" fmla="val -120912"/>
              <a:gd name="adj2" fmla="val 49960"/>
              <a:gd name="adj3" fmla="val -120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9" idx="0"/>
            <a:endCxn id="119" idx="7"/>
          </p:cNvCxnSpPr>
          <p:nvPr/>
        </p:nvCxnSpPr>
        <p:spPr>
          <a:xfrm flipH="1" rot="16200000">
            <a:off x="4668480" y="4435920"/>
            <a:ext cx="189720" cy="459720"/>
          </a:xfrm>
          <a:prstGeom prst="curvedConnector5">
            <a:avLst>
              <a:gd name="adj1" fmla="val -120912"/>
              <a:gd name="adj2" fmla="val 50000"/>
              <a:gd name="adj3" fmla="val -120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1949400" y="4876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31920" y="48769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27720" y="41464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0760" y="48006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37760" y="41464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5410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5334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18920" y="609588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52640" y="609588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08960" y="3886200"/>
            <a:ext cx="266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ypical ques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is the prob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a partic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ation sequ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is the most lik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sequence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responds to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ation sequ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MMs for fMRI Data: Go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goal: Train HMMs on fMRI data (maximize the probability of the model parameters given the training observations), test on new sequ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ltimate goal: Use these algorithms to evaluate HMMs with hidden cognitive sta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rrent St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continuous Baum-Welch algorithm to train HMM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in on multiple observation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Viterbi algorithm to get the probability of a new observation sequence given the train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results on synthetic, continuou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ation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 probabilities -&gt; can’t constrain left-right model form with zero prob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-estimating initial state distrib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um-Welch is more sensitive to observation values than initial transition prob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ing features with one multivariate normal distribution, but forcing independence assump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re-estimate the diagonal of the covariance matr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atures are voxels, not voxels at time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– 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values for Picture-Sentence (PS) HMM below (N=2,M=2), Sentence-Picture (SP) HMM is simi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ed with 10 observation sequences sampled from the given distributions, 5 iterations of the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ed on different sequences, same distrib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4495680"/>
            <a:ext cx="190512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4495680"/>
            <a:ext cx="190512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5486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1" idx="0"/>
            <a:endCxn id="141" idx="7"/>
          </p:cNvCxnSpPr>
          <p:nvPr/>
        </p:nvCxnSpPr>
        <p:spPr>
          <a:xfrm flipH="1" rot="16200000">
            <a:off x="2901960" y="4298400"/>
            <a:ext cx="280080" cy="673920"/>
          </a:xfrm>
          <a:prstGeom prst="curvedConnector5">
            <a:avLst>
              <a:gd name="adj1" fmla="val -81724"/>
              <a:gd name="adj2" fmla="val 49973"/>
              <a:gd name="adj3" fmla="val -817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2" idx="0"/>
            <a:endCxn id="142" idx="7"/>
          </p:cNvCxnSpPr>
          <p:nvPr/>
        </p:nvCxnSpPr>
        <p:spPr>
          <a:xfrm flipH="1" rot="16200000">
            <a:off x="5721480" y="4298400"/>
            <a:ext cx="280080" cy="673920"/>
          </a:xfrm>
          <a:prstGeom prst="curvedConnector5">
            <a:avLst>
              <a:gd name="adj1" fmla="val -81724"/>
              <a:gd name="adj2" fmla="val 49973"/>
              <a:gd name="adj3" fmla="val -817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3200760" y="41911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17400" y="41911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10600" y="51055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54320" y="47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22280" y="47242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29600" y="510552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1: N(0.5,1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2: N(1.0,1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49120" y="510552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1: N(1.0,1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2: N(2.0,1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54600" y="586728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= 0.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50080" y="586728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=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-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seq=PS|model=PS)&gt;P(seq=PS|model=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seq=SP|model=SP)&gt;P(seq=SP|model=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066680" y="3429000"/>
          <a:ext cx="7772400" cy="258768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s. Sequ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24*10^-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53*10^-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872*10^-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897*10^-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15:39:45Z</dcterms:created>
  <dc:creator>School of Computer Science</dc:creator>
  <dc:description/>
  <dc:language>en-US</dc:language>
  <cp:lastModifiedBy>School of Computer Science</cp:lastModifiedBy>
  <dcterms:modified xsi:type="dcterms:W3CDTF">2003-04-30T21:12:33Z</dcterms:modified>
  <cp:revision>13</cp:revision>
  <dc:subject/>
  <dc:title>Hidden Markov Models for fMRI Data</dc:title>
</cp:coreProperties>
</file>